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FFA-299E-4FAA-A945-27BBED20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17B-C565-4D58-AF65-B2DB5D26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B84-F376-48AD-A1D5-65FC9598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1F2-656F-490F-A9ED-C3388BB7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5E3-7316-4285-AB03-D0A9492C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6963-DA41-415D-873F-85EC9D23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3D38-F71A-4A5F-9E86-D60AFAE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5A23-986F-4496-9D9D-0627B6C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14C-0A74-4A76-AB12-7F17B8A9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02CF-7809-463F-B773-2593CE6C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D03-EAAC-40A4-8D4D-5B11AF8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919-DE1B-4D33-8428-A0B9938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915C-4E49-4755-AA25-52AEBF1F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EEEA-7D02-48FE-805A-AF6B522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E00-65AB-412D-B403-18E52F90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FCFF-A6CB-4C29-B8A5-ECA7D527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410-F9C2-499A-B359-11EAD54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232-4954-4103-804B-E7757A69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5B4-6590-48B6-83C4-0429963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8EE-74EE-44EF-8485-7D9EB15A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11E-D6C8-4E1B-9D6F-00EC4C3F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949-BAD9-4655-BDA7-AFB04B0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527-9E8C-482A-907A-B6331E7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0D7-B40E-435E-8CB8-991B741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FB0C-64FF-4382-A632-D5DEEB30472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D09-2D38-4DA5-B64B-251D89B61C00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1522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Stencil"/>
              </a:rPr>
              <a:t>GRAPHING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1337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We use a graph to compare two measurements (</a:t>
            </a:r>
            <a:r>
              <a:rPr b="0" lang="en-US" sz="3200" spc="-1" strike="noStrike">
                <a:solidFill>
                  <a:srgbClr val="ba33c1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) in an experiment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3434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Arial"/>
              </a:rPr>
              <a:t>independent variable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is the one we control.  The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Arial"/>
              </a:rPr>
              <a:t>dependent variable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is the one we want to measu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1676520"/>
            <a:ext cx="50292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26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Put your highest value for the Y axis on top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Arial"/>
              </a:rPr>
              <a:t>Tip:  </a:t>
            </a:r>
            <a:r>
              <a:rPr b="0" lang="en-US" sz="2400" spc="-1" strike="noStrike">
                <a:solidFill>
                  <a:srgbClr val="00264c"/>
                </a:solidFill>
                <a:latin typeface="Arial"/>
              </a:rPr>
              <a:t>Sometimes it helps to round this value to the nearest 10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52388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Now, find ½ of the largest number.  Put that value ½ of the way up the Y axi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75248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By now, you may be able to fill in the rest of the numbers on the Y axis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05120" y="609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MAKING THE GRAPH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2057400"/>
            <a:ext cx="640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Each data point is an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ordered pair. 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For each, you count to the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for the seconds and you count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up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for the cm.  Let’s do the first on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342900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(5 sec, 22 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3276360" y="2895480"/>
            <a:ext cx="609480" cy="91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48" stAng="10800000" swAng="5400000"/>
                <a:lnTo>
                  <a:pt x="15637" y="4612"/>
                </a:lnTo>
                <a:lnTo>
                  <a:pt x="15637" y="0"/>
                </a:lnTo>
                <a:lnTo>
                  <a:pt x="21600" y="6079"/>
                </a:lnTo>
                <a:lnTo>
                  <a:pt x="15637" y="12158"/>
                </a:lnTo>
                <a:lnTo>
                  <a:pt x="15637" y="7546"/>
                </a:lnTo>
                <a:lnTo>
                  <a:pt x="12427" y="7546"/>
                </a:lnTo>
                <a:arcTo wR="9493" hR="4614" stAng="16200000" swAng="-5400000"/>
                <a:lnTo>
                  <a:pt x="2934" y="21600"/>
                </a:lnTo>
                <a:close/>
              </a:path>
            </a:pathLst>
          </a:custGeom>
          <a:solidFill>
            <a:srgbClr val="3a103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3880" y="198108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If you do the same thing with the other points, your graph will look like thi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342900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32767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28195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2666880"/>
            <a:ext cx="15264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220968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19051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8288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Use a “best fitting line” on your graph.  This means, use a ruler to draw a line that is approximately in the middle of all the poi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267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DO NOT CONNECT THE DOTS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5410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VER!!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342900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2767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28195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2666880"/>
            <a:ext cx="15264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220968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19051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437920" y="1676520"/>
            <a:ext cx="4953240" cy="2438280"/>
          </a:xfrm>
          <a:prstGeom prst="line">
            <a:avLst/>
          </a:prstGeom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304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What do we include on a graph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905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Arial"/>
              </a:rPr>
              <a:t>T  A  I  L  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7432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it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xi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ncr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ab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ca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81080" y="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ITLE: 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he graph must have a title that explains what is being compared to what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8800"/>
            <a:ext cx="65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XIS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The independent variable (usually the first column of the data table) goes on the X axis.  The dependent variable (the second column of the data table) goes on the Y axi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257800"/>
            <a:ext cx="693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0" name="BD16193_" descr=""/>
          <p:cNvPicPr/>
          <p:nvPr/>
        </p:nvPicPr>
        <p:blipFill>
          <a:blip r:embed="rId2"/>
          <a:stretch/>
        </p:blipFill>
        <p:spPr>
          <a:xfrm>
            <a:off x="2362320" y="5181480"/>
            <a:ext cx="111744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62520" y="518148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NOTE: 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ime always goes on the X axis. 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LWAYS!!!!!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crements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The X and Y axis are number lines.  You have to decide what numbers to put on each lin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0574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Label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You need to identify what the X axis and Y axis stand for.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80988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Your label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contain units of measure.  It’s not enough to say “distance” and “time.”  The labels must say “cm” and “seconds” (it’s ok to abbreviate though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3049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Which number line is the X axis and which one is the Y axis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he X axis is always horizontal, the Y axis is always vertical.  Or……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098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64c"/>
                </a:solidFill>
                <a:latin typeface="Arial"/>
              </a:rPr>
              <a:t>The X stands on his own two feet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64c"/>
                </a:solidFill>
                <a:latin typeface="Arial"/>
              </a:rPr>
              <a:t>The Y reaches for the sky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457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Scale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The graph should take up about ¾ of the graph paper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33720" y="4724280"/>
          <a:ext cx="30456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4724280"/>
                    <a:ext cx="304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rot="5400000">
            <a:off x="1296720" y="5141520"/>
            <a:ext cx="8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5638680"/>
          <a:ext cx="50385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638680"/>
                    <a:ext cx="5038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429000" y="6324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4120"/>
            <a:ext cx="7596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057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Arial"/>
              </a:rPr>
              <a:t>Looks kind of silly, don’t you think?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257800"/>
            <a:ext cx="7632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181480"/>
            <a:ext cx="75960" cy="15264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5029200"/>
            <a:ext cx="7596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00600"/>
            <a:ext cx="7632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724280"/>
            <a:ext cx="75960" cy="15264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1752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243828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ime (sec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stance (cm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228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HOW DO WE NUMBER THE Y AXIS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09680" y="1066680"/>
          <a:ext cx="25740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2574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5400000">
            <a:off x="93816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33720" y="4952880"/>
          <a:ext cx="50385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4952880"/>
                    <a:ext cx="5038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429000" y="5867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0492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Y axi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4952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X axi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724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038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276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362320"/>
            <a:ext cx="5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438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1676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914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9092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0543"/>
                </a:solidFill>
                <a:latin typeface="Arial Black"/>
              </a:rPr>
              <a:t>NO NO NO!!!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44280">
            <a:solidFill>
              <a:srgbClr val="f30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5:18:31Z</dcterms:created>
  <dc:creator>Administrator</dc:creator>
  <dc:description/>
  <dc:language>en-US</dc:language>
  <cp:lastModifiedBy>Administrator</cp:lastModifiedBy>
  <dcterms:modified xsi:type="dcterms:W3CDTF">2005-02-23T15:49:30Z</dcterms:modified>
  <cp:revision>6</cp:revision>
  <dc:subject/>
  <dc:title>PowerPoint Presentation</dc:title>
</cp:coreProperties>
</file>